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053-2A02-46F3-BE17-729BE581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B3E-5239-44D9-8B79-2B6CF86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323-D568-4446-9E75-B1D01339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8E0-FCB0-410F-83B0-51372FF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9CD-F99E-4735-B10D-4251CFBB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73B-57F4-477B-BC06-7A93728E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0A82-08B2-46D9-B480-550BB29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909-91E2-4689-AF38-EDA600C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C1AD-FAF2-448B-8922-160109B2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3480-6AF1-40EB-9103-3E974AAF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DF2A-A443-40D3-95BC-0474551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E48-70F4-43AA-A575-7BBE6DCB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74E-C9A1-423F-899E-CDB16D2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C482-D735-4DE9-9D54-37F891A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6779-D727-443A-9B8A-B31F7044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2388-00B2-4020-BD71-29F89640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A80-FC46-4CA3-B556-683AA157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E92-AF07-4A7A-AAF7-90602554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AE4-8506-4C9D-84B7-09B6E7E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DDE-3015-49B5-BCAF-466C3BAF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445-1AD7-4EAF-AA1B-2CB6474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0EE-FDE8-4F84-A5CE-BA5F62C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D93-B6BE-46AF-954E-2B5EB75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F59-1808-4142-B92B-AB82E93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605-927B-402D-BCB4-5446DFEE25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DAE-1B2D-4AEF-9D1E-312E14D1F3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../../../..../classes/" TargetMode="External"/><Relationship Id="rId4" Type="http://schemas.openxmlformats.org/officeDocument/2006/relationships/hyperlink" Target="http://myserver:8080/archiwum.jar" TargetMode="External"/><Relationship Id="rId5" Type="http://schemas.openxmlformats.org/officeDocument/2006/relationships/hyperlink" Target="ftp://ftp.server/classes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java.sun.com/j2se/1.4/docs/%0Btooldocs/solaris/rmi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oratorium RMI cz.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Dominik Radziszowski,</a:t>
            </a:r>
            <a:br>
              <a:rPr sz="3200"/>
            </a:b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Sławomir Zielińsk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Zmiany w NoteBoardIm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Dodatkowy konstruktor – wywoływany przez RMI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NoteBoardImpl(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id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data 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row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Rejestrujemy się w „activation system”</a:t>
            </a:r>
            <a:br>
              <a:rPr sz="1800"/>
            </a:b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i eksportujemy referencję na anonimowym porc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able.exportObject(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id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stat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vo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main(String[]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rgs)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row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RMISecurityManager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ertie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erties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s.put(</a:t>
            </a:r>
            <a:r>
              <a:rPr b="0" lang="pl-PL" sz="1800" spc="-1" strike="noStrike">
                <a:solidFill>
                  <a:srgbClr val="2a00ff"/>
                </a:solidFill>
                <a:latin typeface="Courier New"/>
              </a:rPr>
              <a:t>"java.security.policy"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2a00ff"/>
                </a:solidFill>
                <a:latin typeface="Courier New"/>
              </a:rPr>
              <a:t>"~/javaAll.policy"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Tworzymy środowisko uruchomieniowe dla NoteBoa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.CommandEnvironment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exampleGroup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br>
              <a:rPr sz="1800"/>
            </a:b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(props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e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Rejestrujemy utworzone środowisk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gi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Miejsce przechowywania naszych k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file:~/dydakt/lab2/serwer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ctivationDesc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esc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ctivationDes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(agi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agh.rozproszone.NoteBoardImpl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location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ata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Rejestrujemy się w RMID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NoteBoard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ri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(NoteBoard)Activatable.register(desc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Efekt rejestracji „aktywujący” stu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Naming.rebind(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NoteBoard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ri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Exported NoteBoard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i tyle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 dzieła!!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oteBoardImpl – zmienic implementac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ctivationSetup – stworzyc programi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ozbudowujemy naszą aplikację – wersja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~/student-426/[nazwisko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opiować kod klienta: ~/lab1/klient/*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ruchomić (localhost, port 4260+num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O co nam chodz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Chcemy wykorzystać możliwość dynamicznego</a:t>
            </a:r>
            <a:br>
              <a:rPr sz="2800"/>
            </a:b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oładowywania stubów przez kli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ynamiczne ładowanie k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rmiregistry: poza referencją przechowuje informacje gdzie można znaleźć pliki .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java –Djava.rmi.server.codebase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file://c:/...../classes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myserver:8080/archiwum.j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ftp://ftp.server/classes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Kl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lasy lokalne są ładowane w pierwszej kolejności – usunąć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usimy zainicjować security manag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security.manag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security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ozbudowujemy naszą aplikację – wersja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Co zmieniam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lient nie ma stubów obiektów serwera</a:t>
            </a:r>
            <a:br>
              <a:rPr sz="2400"/>
            </a:b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 zmiennej CLASSPA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ŁASNE MA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onfigurujemy parametry uruchomi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klienta: -Djava.security.policy=policy.a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erwera: -Djava.rmi.server.codebase=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 oznaczonym miejscu umieszczamy stuby obiektów serw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 naszym przypadku tylko obiektu NoteBoardImp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ruchomien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miregist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rmiregistry –J-Djava.security.policy=~/javaAll.polic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erwer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va 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rmi.server.codebase=file:/home/jasmin/llsr/lab2/serwer/ -Djava.security.policy=/home/jasmin/llsr/javaAll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gh.rozproszone.NoteBoardSer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Klient: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java 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Djava.security.manager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Djava.security.policy=/home/jasmin/llsr/javaAll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gh.rozproszone.NoteBoardCli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waga na „/” na końcu ścieże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7621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to siup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ak uczynić serwer dynamicznym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o zmienia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nie posiada stubów klas kli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może korzystać z RMI Class Load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zego nie zmienia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jest uruchamiany wcześniej, niż kl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o zyskuje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jest mniej uzależniony od zmian</a:t>
            </a:r>
            <a:br>
              <a:rPr sz="2800"/>
            </a:b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 kliencie (i vice vers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NoteBoard v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600200"/>
            <a:ext cx="274320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057400"/>
            <a:ext cx="16761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imes New Roman"/>
              </a:rPr>
              <a:t>NoteBoardImp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2720160" y="2079360"/>
            <a:ext cx="114300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imes New Roman"/>
              </a:rPr>
              <a:t>NoteBoar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200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NoteBoardServ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438640" cy="1981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2057400"/>
            <a:ext cx="2590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1828800"/>
            <a:ext cx="167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register()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unRegister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appendText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1676520"/>
            <a:ext cx="243828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1828800"/>
            <a:ext cx="243828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2666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NoteBoardCl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429000"/>
            <a:ext cx="2210040" cy="152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438280"/>
            <a:ext cx="1447560" cy="990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362320"/>
            <a:ext cx="457200" cy="1143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2514600"/>
            <a:ext cx="457200" cy="1143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5672880" y="2947320"/>
            <a:ext cx="1141560" cy="58068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imes New Roman"/>
              </a:rPr>
              <a:t>NoteBoardListe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438280"/>
            <a:ext cx="144756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438280"/>
            <a:ext cx="1447560" cy="1143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3581280"/>
            <a:ext cx="236232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276720"/>
            <a:ext cx="2057400" cy="152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809880"/>
            <a:ext cx="84582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Tak jak poprzednio tylk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nNewText(Note not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class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ote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implements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erializable{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rivate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ote(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)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this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.text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=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String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return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25000" y="3249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58c"/>
                </a:solidFill>
                <a:latin typeface="Tahoma"/>
              </a:rPr>
              <a:t>onNewText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5000" y="548640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to siup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SecurityManag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amiast: -Djava.security.manag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f7f5f"/>
                </a:solidFill>
                <a:latin typeface="Courier New"/>
              </a:rPr>
              <a:t>//security manag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if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(System.getSecurityManager()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RMISecurityManag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lik polic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security.AllPermission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}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net.SocketPermission "*:1024-65535", "connect,accept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net.SocketPermission "*:80", "connect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}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codeBase "file:${java.home}/lib/-" {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lang.RuntimePermission "loadLibrary.*";    permission java.lang.RuntimePermission "accessClassInPackage.*";    permission java.lang.RuntimePermission "queuePrintJob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Activation – jak tego użyć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Dodatkowy konstruktor </a:t>
            </a:r>
            <a:br>
              <a:rPr sz="3200"/>
            </a:b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w NoteBoardIm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arametry: ActivationID, Marshalled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Modyfikacja klasy NoteBoardSer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rmid: </a:t>
            </a:r>
            <a:r>
              <a:rPr b="0" lang="pl-PL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java.sun.com/j2se/1.4/docs/_x000b_tooldocs/solaris/rmid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rmiregistr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9:57:13Z</dcterms:created>
  <dc:creator>Dominik Radziszowski</dc:creator>
  <dc:description/>
  <dc:language>en-US</dc:language>
  <cp:lastModifiedBy>MJ</cp:lastModifiedBy>
  <dcterms:modified xsi:type="dcterms:W3CDTF">2005-04-11T09:07:20Z</dcterms:modified>
  <cp:revision>54</cp:revision>
  <dc:subject/>
  <dc:title>Laboratorium RMI</dc:title>
</cp:coreProperties>
</file>