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5FE3-4755-432C-BD90-5AF6089B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202-D7E5-42E0-A6E5-0D2CCC5A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DCB4-6524-401F-94CE-003EC0C9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6C8-62D3-4AE7-8C0D-C4B40686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9374-5EE4-4CC0-818C-2FFEBAE2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6167-C2FD-49AF-931F-46D6D576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6DB-A23D-4950-917A-FD77ED82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560-3766-41BB-AB7F-C1D5620B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F7AE-F95C-42BE-84C1-79CEA1AB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DB1E-22A9-4970-9A38-FD24D69A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D4F6-B252-49ED-A7A0-150807DC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13D3-93BB-45AB-86BB-FAFE4611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BAEB-395A-45C8-8F5E-727281CA4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2.png"/><Relationship Id="rId11" Type="http://schemas.openxmlformats.org/officeDocument/2006/relationships/image" Target="../media/image15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WINDOWS\rundll32.exe amovie.ocx,RunDll /play /close c:\home\kz\sun.mpg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2590920"/>
            <a:ext cx="7086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Nowoczesne Architektury Oprogramowani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ozproszonych Systemów Komputerowyc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81280" y="46483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rzysztof Zielińs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atedra Informaty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kademia Górniczo-Hutnicza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45720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blemy otw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447920" y="2438280"/>
            <a:ext cx="380880" cy="381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2438280"/>
            <a:ext cx="576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Arial"/>
              </a:rPr>
              <a:t>Skalowalność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obiektowych rozprosz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nych środowisk tworzenia aplikacji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5105520"/>
            <a:ext cx="38088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3429000"/>
            <a:ext cx="38088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09680" y="41911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owiązanie stanó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obiektów sieciow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 ich reprezentacją w bazie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33526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Arial"/>
              </a:rPr>
              <a:t>Trwałość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obiektów  sieciowych - Persysteność - Czas ży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4267080"/>
            <a:ext cx="380880" cy="3812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1920" y="510552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obilność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obiektów sieci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blemy otw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902600" y="2438280"/>
            <a:ext cx="602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Arial"/>
              </a:rPr>
              <a:t>Tolerancja uszkodzeń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w sieci obiektów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resynchronizacja sta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2514600"/>
            <a:ext cx="38088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4876920"/>
            <a:ext cx="38088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3240" y="487692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tyfikacja zdarze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81080" y="3657600"/>
            <a:ext cx="55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ekazywanie  obiektów sieci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ez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wartoś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365760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752480" y="2895480"/>
            <a:ext cx="152640" cy="3812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819520"/>
            <a:ext cx="152280" cy="380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29400" y="2895480"/>
            <a:ext cx="152280" cy="3812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72400" y="2895480"/>
            <a:ext cx="152280" cy="3812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3962520"/>
            <a:ext cx="304560" cy="4572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1752480"/>
            <a:ext cx="914400" cy="914400"/>
          </a:xfrm>
          <a:prstGeom prst="irregularSeal1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y rozpowszechnia inform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828080" y="556272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zorzec Obserwator /Obserwow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3200400"/>
            <a:ext cx="769644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71600" y="2438280"/>
            <a:ext cx="9144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Obs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w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38480" y="4343400"/>
            <a:ext cx="1067040" cy="838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91520" y="2438280"/>
            <a:ext cx="9144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Obs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w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48520" y="2438280"/>
            <a:ext cx="9144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Obs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w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2438280"/>
            <a:ext cx="9144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Obs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w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2590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5268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2200" y="20574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92400" y="4495680"/>
            <a:ext cx="2797560" cy="6426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y Monitorow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tywne Bazy Da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95640" y="40752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Zdarze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68" idx="2"/>
            <a:endCxn id="269" idx="0"/>
          </p:cNvCxnSpPr>
          <p:nvPr/>
        </p:nvCxnSpPr>
        <p:spPr>
          <a:xfrm flipH="1" rot="16200000">
            <a:off x="2476440" y="2247480"/>
            <a:ext cx="1448640" cy="2743920"/>
          </a:xfrm>
          <a:prstGeom prst="bentConnector3">
            <a:avLst>
              <a:gd name="adj1" fmla="val 49987"/>
            </a:avLst>
          </a:prstGeom>
          <a:ln w="38160">
            <a:solidFill>
              <a:srgbClr val="ffff00"/>
            </a:solidFill>
            <a:prstDash val="sysDot"/>
            <a:miter/>
          </a:ln>
        </p:spPr>
      </p:cxnSp>
      <p:cxnSp>
        <p:nvCxnSpPr>
          <p:cNvPr id="280" name=""/>
          <p:cNvCxnSpPr>
            <a:stCxn id="272" idx="2"/>
            <a:endCxn id="269" idx="0"/>
          </p:cNvCxnSpPr>
          <p:nvPr/>
        </p:nvCxnSpPr>
        <p:spPr>
          <a:xfrm rot="5400000">
            <a:off x="4342680" y="3124080"/>
            <a:ext cx="1448640" cy="991440"/>
          </a:xfrm>
          <a:prstGeom prst="bentConnector3">
            <a:avLst>
              <a:gd name="adj1" fmla="val 49987"/>
            </a:avLst>
          </a:prstGeom>
          <a:ln w="38160">
            <a:solidFill>
              <a:srgbClr val="ffff00"/>
            </a:solidFill>
            <a:prstDash val="sysDot"/>
            <a:miter/>
          </a:ln>
        </p:spPr>
      </p:cxnSp>
      <p:cxnSp>
        <p:nvCxnSpPr>
          <p:cNvPr id="281" name=""/>
          <p:cNvCxnSpPr>
            <a:stCxn id="271" idx="2"/>
            <a:endCxn id="269" idx="0"/>
          </p:cNvCxnSpPr>
          <p:nvPr/>
        </p:nvCxnSpPr>
        <p:spPr>
          <a:xfrm rot="5400000">
            <a:off x="4914000" y="2552400"/>
            <a:ext cx="1448640" cy="2134440"/>
          </a:xfrm>
          <a:prstGeom prst="bentConnector3">
            <a:avLst>
              <a:gd name="adj1" fmla="val 49987"/>
            </a:avLst>
          </a:prstGeom>
          <a:ln w="38160">
            <a:solidFill>
              <a:srgbClr val="ffff00"/>
            </a:solidFill>
            <a:prstDash val="sysDot"/>
            <a:miter/>
          </a:ln>
        </p:spPr>
      </p:cxnSp>
      <p:cxnSp>
        <p:nvCxnSpPr>
          <p:cNvPr id="282" name=""/>
          <p:cNvCxnSpPr>
            <a:stCxn id="270" idx="2"/>
            <a:endCxn id="269" idx="0"/>
          </p:cNvCxnSpPr>
          <p:nvPr/>
        </p:nvCxnSpPr>
        <p:spPr>
          <a:xfrm rot="5400000">
            <a:off x="5485680" y="1981080"/>
            <a:ext cx="1448640" cy="3277440"/>
          </a:xfrm>
          <a:prstGeom prst="bentConnector3">
            <a:avLst>
              <a:gd name="adj1" fmla="val 49987"/>
            </a:avLst>
          </a:prstGeom>
          <a:ln w="38160">
            <a:solidFill>
              <a:srgbClr val="ffff00"/>
            </a:solidFill>
            <a:prstDash val="sysDot"/>
            <a:miter/>
          </a:ln>
        </p:spPr>
      </p:cxnSp>
      <p:cxnSp>
        <p:nvCxnSpPr>
          <p:cNvPr id="283" name=""/>
          <p:cNvCxnSpPr>
            <a:stCxn id="269" idx="0"/>
            <a:endCxn id="268" idx="2"/>
          </p:cNvCxnSpPr>
          <p:nvPr/>
        </p:nvCxnSpPr>
        <p:spPr>
          <a:xfrm flipV="1" rot="16200000">
            <a:off x="2476080" y="2247120"/>
            <a:ext cx="1448640" cy="2743920"/>
          </a:xfrm>
          <a:prstGeom prst="bentConnector3">
            <a:avLst>
              <a:gd name="adj1" fmla="val 49987"/>
            </a:avLst>
          </a:prstGeom>
          <a:ln w="76320">
            <a:solidFill>
              <a:srgbClr val="ff0066"/>
            </a:solidFill>
            <a:miter/>
          </a:ln>
        </p:spPr>
      </p:cxnSp>
      <p:cxnSp>
        <p:nvCxnSpPr>
          <p:cNvPr id="284" name=""/>
          <p:cNvCxnSpPr>
            <a:stCxn id="269" idx="0"/>
            <a:endCxn id="272" idx="2"/>
          </p:cNvCxnSpPr>
          <p:nvPr/>
        </p:nvCxnSpPr>
        <p:spPr>
          <a:xfrm flipH="1" flipV="1" rot="5400000">
            <a:off x="4343040" y="3123720"/>
            <a:ext cx="1448640" cy="991440"/>
          </a:xfrm>
          <a:prstGeom prst="bentConnector3">
            <a:avLst>
              <a:gd name="adj1" fmla="val 49987"/>
            </a:avLst>
          </a:prstGeom>
          <a:ln w="76320">
            <a:solidFill>
              <a:srgbClr val="ff0066"/>
            </a:solidFill>
            <a:miter/>
          </a:ln>
        </p:spPr>
      </p:cxnSp>
      <p:cxnSp>
        <p:nvCxnSpPr>
          <p:cNvPr id="285" name=""/>
          <p:cNvCxnSpPr>
            <a:stCxn id="269" idx="0"/>
            <a:endCxn id="271" idx="2"/>
          </p:cNvCxnSpPr>
          <p:nvPr/>
        </p:nvCxnSpPr>
        <p:spPr>
          <a:xfrm flipH="1" flipV="1" rot="5400000">
            <a:off x="4914360" y="2552040"/>
            <a:ext cx="1448640" cy="2134440"/>
          </a:xfrm>
          <a:prstGeom prst="bentConnector3">
            <a:avLst>
              <a:gd name="adj1" fmla="val 49987"/>
            </a:avLst>
          </a:prstGeom>
          <a:ln w="76320">
            <a:solidFill>
              <a:srgbClr val="ff0066"/>
            </a:solidFill>
            <a:miter/>
          </a:ln>
        </p:spPr>
      </p:cxnSp>
      <p:cxnSp>
        <p:nvCxnSpPr>
          <p:cNvPr id="286" name=""/>
          <p:cNvCxnSpPr>
            <a:stCxn id="269" idx="0"/>
            <a:endCxn id="270" idx="2"/>
          </p:cNvCxnSpPr>
          <p:nvPr/>
        </p:nvCxnSpPr>
        <p:spPr>
          <a:xfrm flipH="1" flipV="1" rot="5400000">
            <a:off x="5486040" y="1980720"/>
            <a:ext cx="1448640" cy="3277440"/>
          </a:xfrm>
          <a:prstGeom prst="bentConnector3">
            <a:avLst>
              <a:gd name="adj1" fmla="val 49987"/>
            </a:avLst>
          </a:prstGeom>
          <a:ln w="76320">
            <a:solidFill>
              <a:srgbClr val="ff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752480" y="2819520"/>
            <a:ext cx="152640" cy="380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91120" y="3657600"/>
            <a:ext cx="152280" cy="380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9880" y="4114800"/>
            <a:ext cx="167652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5029200"/>
            <a:ext cx="1981080" cy="12193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RBA a Obiektowe Bazy Da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838080" y="3200400"/>
            <a:ext cx="7696440" cy="533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2438280"/>
            <a:ext cx="9144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62520" y="4419720"/>
            <a:ext cx="609480" cy="457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24280" y="4419720"/>
            <a:ext cx="609840" cy="457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9880" y="5105520"/>
            <a:ext cx="167652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ODB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6200" y="5638680"/>
            <a:ext cx="1676520" cy="60984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OD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00800" y="5410080"/>
            <a:ext cx="380880" cy="304920"/>
          </a:xfrm>
          <a:prstGeom prst="ellipse">
            <a:avLst/>
          </a:prstGeom>
          <a:gradFill rotWithShape="0">
            <a:gsLst>
              <a:gs pos="0">
                <a:srgbClr val="00808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10280" y="5410080"/>
            <a:ext cx="381240" cy="304920"/>
          </a:xfrm>
          <a:prstGeom prst="ellipse">
            <a:avLst/>
          </a:prstGeom>
          <a:gradFill rotWithShape="0">
            <a:gsLst>
              <a:gs pos="0">
                <a:srgbClr val="00808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43800" y="5410080"/>
            <a:ext cx="380880" cy="304920"/>
          </a:xfrm>
          <a:prstGeom prst="ellipse">
            <a:avLst/>
          </a:prstGeom>
          <a:gradFill rotWithShape="0">
            <a:gsLst>
              <a:gs pos="0">
                <a:srgbClr val="00808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9600" y="441972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cc00"/>
                </a:solidFill>
                <a:latin typeface="Arial"/>
              </a:rPr>
              <a:t>CORBA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895480"/>
            <a:ext cx="0" cy="6098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28800" y="3505320"/>
            <a:ext cx="2438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7080" y="3505320"/>
            <a:ext cx="0" cy="9144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57800" y="4724280"/>
            <a:ext cx="1828800" cy="685800"/>
          </a:xfrm>
          <a:prstGeom prst="line">
            <a:avLst/>
          </a:prstGeom>
          <a:ln cap="rnd" w="9360">
            <a:solidFill>
              <a:srgbClr val="ff0066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19720" y="4800600"/>
            <a:ext cx="2057400" cy="685800"/>
          </a:xfrm>
          <a:prstGeom prst="line">
            <a:avLst/>
          </a:prstGeom>
          <a:ln cap="rnd" w="9360">
            <a:solidFill>
              <a:srgbClr val="ff0066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15000" y="5867280"/>
            <a:ext cx="4572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48320" y="5486400"/>
            <a:ext cx="0" cy="152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45440" y="1839960"/>
            <a:ext cx="261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Transmisja Oper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Transmisja Da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8920" y="32767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29200" y="43797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66"/>
                </a:solidFill>
                <a:latin typeface="Arial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90720" y="1905120"/>
            <a:ext cx="716256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oda badaw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447920" y="1981080"/>
            <a:ext cx="64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Weryfikacja rozwiązań na drod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mplementacji eksperymentalnych aplik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6200" y="3124080"/>
            <a:ext cx="29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ystemy lokali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920" y="4495680"/>
            <a:ext cx="36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ystemy monitorow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5280" y="525780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ystemy wrażliwe na lokaliza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mobile multi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3809880"/>
            <a:ext cx="49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ieciowe systemy multimedial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y wrażliwe na lokalizację  (W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26" name="spirit" descr=""/>
          <p:cNvPicPr/>
          <p:nvPr/>
        </p:nvPicPr>
        <p:blipFill>
          <a:blip r:embed="rId2"/>
          <a:stretch/>
        </p:blipFill>
        <p:spPr>
          <a:xfrm>
            <a:off x="1676520" y="1828800"/>
            <a:ext cx="6019560" cy="38336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511720" y="5867280"/>
            <a:ext cx="43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rtualny świat  a lokali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 B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31" name="ic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5410080" cy="3886200"/>
          </a:xfrm>
          <a:prstGeom prst="rect">
            <a:avLst/>
          </a:prstGeom>
          <a:ln w="0">
            <a:noFill/>
          </a:ln>
        </p:spPr>
      </p:pic>
      <p:pic>
        <p:nvPicPr>
          <p:cNvPr id="332" name="theory" descr=""/>
          <p:cNvPicPr/>
          <p:nvPr/>
        </p:nvPicPr>
        <p:blipFill>
          <a:blip r:embed="rId3"/>
          <a:stretch/>
        </p:blipFill>
        <p:spPr>
          <a:xfrm>
            <a:off x="6095880" y="2743200"/>
            <a:ext cx="27147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ktywna  plakietka  systemu BA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36" name="nb" descr=""/>
          <p:cNvPicPr/>
          <p:nvPr/>
        </p:nvPicPr>
        <p:blipFill>
          <a:blip r:embed="rId2"/>
          <a:stretch/>
        </p:blipFill>
        <p:spPr>
          <a:xfrm>
            <a:off x="2514600" y="2514600"/>
            <a:ext cx="38098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kietki Systemu 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40" name="badges" descr=""/>
          <p:cNvPicPr/>
          <p:nvPr/>
        </p:nvPicPr>
        <p:blipFill>
          <a:blip r:embed="rId2"/>
          <a:stretch/>
        </p:blipFill>
        <p:spPr>
          <a:xfrm>
            <a:off x="1219320" y="2057400"/>
            <a:ext cx="65530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chitektura systemu W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44" name="architecture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626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kres wykła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2590920"/>
            <a:ext cx="38124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0880" y="2590920"/>
            <a:ext cx="517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Kierunki rozwoju oprogramow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ystemów rozproszo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4800600"/>
            <a:ext cx="38124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373392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7920" y="3657600"/>
            <a:ext cx="529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łasności  wybranych architektur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blemy badawc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40440" y="4724280"/>
            <a:ext cx="50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ykładowe obszary zastosowa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5410080" y="2895480"/>
            <a:ext cx="3276720" cy="19814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3520" y="2971800"/>
            <a:ext cx="3276360" cy="1981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219320" y="3429000"/>
            <a:ext cx="838080" cy="4572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MediaCt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9880" y="2514600"/>
            <a:ext cx="1371600" cy="6094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StreamCtr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62320" y="3429000"/>
            <a:ext cx="838080" cy="457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V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4191120"/>
            <a:ext cx="1067040" cy="304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66"/>
                </a:solidFill>
                <a:latin typeface="Arial"/>
              </a:rPr>
              <a:t>MM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209680" y="4952880"/>
          <a:ext cx="2837160" cy="12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4952880"/>
                    <a:ext cx="283716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4114800" y="4876920"/>
          <a:ext cx="2825640" cy="152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4876920"/>
                    <a:ext cx="282564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609480" y="5562720"/>
            <a:ext cx="5334120" cy="761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86400" y="5867280"/>
            <a:ext cx="2209680" cy="38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352680" y="5334120"/>
            <a:ext cx="2590920" cy="228600"/>
          </a:xfrm>
          <a:prstGeom prst="leftRightArrow">
            <a:avLst>
              <a:gd name="adj1" fmla="val 50000"/>
              <a:gd name="adj2" fmla="val 22562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62320" y="4114800"/>
            <a:ext cx="990360" cy="4572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43600" y="3429000"/>
            <a:ext cx="838080" cy="45720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V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43600" y="4114800"/>
            <a:ext cx="990720" cy="4572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86600" y="3505320"/>
            <a:ext cx="838080" cy="45720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MediaCt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086600" y="4267080"/>
            <a:ext cx="1066680" cy="30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66"/>
                </a:solidFill>
                <a:latin typeface="Arial"/>
              </a:rPr>
              <a:t>MM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981080" y="3276720"/>
            <a:ext cx="457200" cy="761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81680" y="3429000"/>
            <a:ext cx="533520" cy="762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438280" y="2895120"/>
            <a:ext cx="1371600" cy="381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1480" y="2895480"/>
            <a:ext cx="160020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286000" y="3809520"/>
            <a:ext cx="228600" cy="228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4191120"/>
            <a:ext cx="152280" cy="759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5720" y="3809880"/>
            <a:ext cx="457200" cy="3812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6934320" y="4343400"/>
            <a:ext cx="152280" cy="763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0040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52680" y="43434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00200" y="3886200"/>
            <a:ext cx="0" cy="152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20120" y="3962520"/>
            <a:ext cx="0" cy="152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OMG A/V Streams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forma sprzętowa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133720" y="2971800"/>
            <a:ext cx="5333760" cy="16002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acl2640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2438280" cy="3886200"/>
          </a:xfrm>
          <a:prstGeom prst="rect">
            <a:avLst/>
          </a:prstGeom>
          <a:ln w="0">
            <a:noFill/>
          </a:ln>
        </p:spPr>
      </p:pic>
      <p:pic>
        <p:nvPicPr>
          <p:cNvPr id="383" name="smc" descr=""/>
          <p:cNvPicPr/>
          <p:nvPr/>
        </p:nvPicPr>
        <p:blipFill>
          <a:blip r:embed="rId3"/>
          <a:stretch/>
        </p:blipFill>
        <p:spPr>
          <a:xfrm>
            <a:off x="6324480" y="2743200"/>
            <a:ext cx="2057400" cy="2133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84" name=""/>
          <p:cNvSpPr/>
          <p:nvPr/>
        </p:nvSpPr>
        <p:spPr>
          <a:xfrm>
            <a:off x="3202200" y="19810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64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377480" y="20937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5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8600" y="5866920"/>
            <a:ext cx="3276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obot taśm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CL 26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83480" y="510552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SUN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itektura systemu 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905120" y="3581280"/>
            <a:ext cx="5486400" cy="20574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acl2640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838440" cy="1295640"/>
          </a:xfrm>
          <a:prstGeom prst="rect">
            <a:avLst/>
          </a:prstGeom>
          <a:ln w="0">
            <a:noFill/>
          </a:ln>
        </p:spPr>
      </p:pic>
      <p:pic>
        <p:nvPicPr>
          <p:cNvPr id="393" name="smc" descr=""/>
          <p:cNvPicPr/>
          <p:nvPr/>
        </p:nvPicPr>
        <p:blipFill>
          <a:blip r:embed="rId3"/>
          <a:stretch/>
        </p:blipFill>
        <p:spPr>
          <a:xfrm>
            <a:off x="7238880" y="4267080"/>
            <a:ext cx="685800" cy="762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94" name=""/>
          <p:cNvSpPr/>
          <p:nvPr/>
        </p:nvSpPr>
        <p:spPr>
          <a:xfrm>
            <a:off x="6629400" y="48006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81080" y="472428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67080" y="34290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09680" y="4343400"/>
            <a:ext cx="4876920" cy="304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0968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1480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4360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495680" y="28954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3532800">
            <a:off x="5601600" y="2551680"/>
            <a:ext cx="188640" cy="1486080"/>
          </a:xfrm>
          <a:prstGeom prst="upDownArrow">
            <a:avLst>
              <a:gd name="adj1" fmla="val 50000"/>
              <a:gd name="adj2" fmla="val 156828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rot="17667000">
            <a:off x="3331080" y="2459160"/>
            <a:ext cx="195120" cy="1676160"/>
          </a:xfrm>
          <a:prstGeom prst="upDownArrow">
            <a:avLst>
              <a:gd name="adj1" fmla="val 50000"/>
              <a:gd name="adj2" fmla="val 171013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09680" y="44956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0" y="44956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4038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76720" y="4952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67800" y="426708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I O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WFS interface użytkow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12" name="vfs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33920" y="1981080"/>
            <a:ext cx="46479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 rot="2326800">
            <a:off x="3428640" y="4114440"/>
            <a:ext cx="18108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38480" y="2666880"/>
            <a:ext cx="15264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400800" y="3276720"/>
            <a:ext cx="60948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3429000"/>
            <a:ext cx="53352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18576600">
            <a:off x="5936400" y="3816720"/>
            <a:ext cx="168480" cy="1068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Mobilne multi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3809880" y="2209680"/>
            <a:ext cx="60984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228600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19920" y="4648320"/>
            <a:ext cx="60948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5880" y="472428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743200" y="4419720"/>
            <a:ext cx="60948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449568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3124080"/>
            <a:ext cx="60984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086600" y="320040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81280" y="2819520"/>
            <a:ext cx="167652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895480" y="2971800"/>
            <a:ext cx="167652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3200400"/>
            <a:ext cx="167652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191120" y="2819520"/>
            <a:ext cx="167616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91120" y="3276720"/>
            <a:ext cx="167616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6920" y="3048120"/>
            <a:ext cx="167616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5120" y="3276720"/>
            <a:ext cx="685800" cy="457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248520" y="5181480"/>
            <a:ext cx="152280" cy="152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24480" y="5334120"/>
            <a:ext cx="0" cy="304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6095520" y="5638680"/>
            <a:ext cx="228600" cy="3812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324480" y="5638680"/>
            <a:ext cx="152640" cy="3812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248520" y="5410080"/>
            <a:ext cx="152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6095880" y="5410080"/>
            <a:ext cx="152640" cy="228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5410080"/>
            <a:ext cx="152280" cy="1526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35" idx="3"/>
            <a:endCxn id="425" idx="3"/>
          </p:cNvCxnSpPr>
          <p:nvPr/>
        </p:nvCxnSpPr>
        <p:spPr>
          <a:xfrm>
            <a:off x="2590920" y="3504960"/>
            <a:ext cx="762480" cy="1143720"/>
          </a:xfrm>
          <a:prstGeom prst="curvedConnector5">
            <a:avLst>
              <a:gd name="adj1" fmla="val 129995"/>
              <a:gd name="adj2" fmla="val 50000"/>
              <a:gd name="adj3" fmla="val 129995"/>
            </a:avLst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35" idx="3"/>
            <a:endCxn id="423" idx="0"/>
          </p:cNvCxnSpPr>
          <p:nvPr/>
        </p:nvCxnSpPr>
        <p:spPr>
          <a:xfrm>
            <a:off x="2590560" y="3504960"/>
            <a:ext cx="3734280" cy="1143720"/>
          </a:xfrm>
          <a:prstGeom prst="curved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45" name=""/>
          <p:cNvCxnSpPr>
            <a:stCxn id="435" idx="3"/>
            <a:endCxn id="421" idx="2"/>
          </p:cNvCxnSpPr>
          <p:nvPr/>
        </p:nvCxnSpPr>
        <p:spPr>
          <a:xfrm flipV="1">
            <a:off x="2590560" y="2666160"/>
            <a:ext cx="1524600" cy="839160"/>
          </a:xfrm>
          <a:prstGeom prst="curved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446" name=""/>
          <p:cNvSpPr/>
          <p:nvPr/>
        </p:nvSpPr>
        <p:spPr>
          <a:xfrm flipV="1">
            <a:off x="2743200" y="3352680"/>
            <a:ext cx="426708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71800" y="457200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48520" y="480060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62920" y="3276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038480" y="23623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429000" y="4800600"/>
            <a:ext cx="152280" cy="15228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05320" y="49528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3276360" y="5257800"/>
            <a:ext cx="228600" cy="3808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05320" y="5257800"/>
            <a:ext cx="152280" cy="3808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29000" y="5029200"/>
            <a:ext cx="152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3276360" y="5029200"/>
            <a:ext cx="152280" cy="228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81280" y="5029200"/>
            <a:ext cx="152640" cy="152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91520" y="3657600"/>
            <a:ext cx="152280" cy="15228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467480" y="38098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7238520" y="4114800"/>
            <a:ext cx="228600" cy="3808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467480" y="4114800"/>
            <a:ext cx="152640" cy="3808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391520" y="3886200"/>
            <a:ext cx="152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7238880" y="3886200"/>
            <a:ext cx="152640" cy="228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543800" y="3886200"/>
            <a:ext cx="152280" cy="152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648320" y="1981080"/>
            <a:ext cx="152280" cy="152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24280" y="2133720"/>
            <a:ext cx="0" cy="304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495320" y="2438280"/>
            <a:ext cx="228600" cy="3812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724280" y="2438280"/>
            <a:ext cx="152640" cy="3812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648320" y="2209680"/>
            <a:ext cx="152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4495680" y="2209680"/>
            <a:ext cx="152640" cy="228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0600" y="2209680"/>
            <a:ext cx="152280" cy="1526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35920" y="376704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66"/>
                </a:solidFill>
                <a:latin typeface="Arial"/>
              </a:rPr>
              <a:t>Video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28954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SIE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5791320"/>
            <a:ext cx="21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66"/>
                </a:solidFill>
                <a:latin typeface="Arial"/>
              </a:rPr>
              <a:t>Video follow  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33040" y="5029200"/>
            <a:ext cx="2015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Powiązan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Sieciowych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Systemów Lokalizacj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143000" y="2286000"/>
            <a:ext cx="7086600" cy="220968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43000" y="2514600"/>
            <a:ext cx="5715000" cy="175248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66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143000" y="2590920"/>
            <a:ext cx="4419720" cy="1523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zwój technologii oprogram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143000" y="2895480"/>
            <a:ext cx="2743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219320" y="5181480"/>
            <a:ext cx="7238880" cy="457200"/>
          </a:xfrm>
          <a:prstGeom prst="rightArrow">
            <a:avLst>
              <a:gd name="adj1" fmla="val 50000"/>
              <a:gd name="adj2" fmla="val 3958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71600" y="3276720"/>
            <a:ext cx="1143000" cy="228600"/>
          </a:xfrm>
          <a:prstGeom prst="leftRightArrow">
            <a:avLst>
              <a:gd name="adj1" fmla="val 50000"/>
              <a:gd name="adj2" fmla="val 9953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16040" y="2941560"/>
            <a:ext cx="104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Szy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Kom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86200" y="294156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słu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yste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23200" y="2906640"/>
            <a:ext cx="12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a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82040" y="297180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rw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630120" y="5867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ozwó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1750680" y="4724280"/>
            <a:ext cx="655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Postęp w tym zakresie jest możliwy poprz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weryfikację praktyczną koncepcji teoretycz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nych rozwiąza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19320" y="2666880"/>
            <a:ext cx="380880" cy="381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2666880"/>
            <a:ext cx="600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ykorzystanie zasobów sieciowych j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wiązane z konstrukcją nowoczes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rstw pośrednicząc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143000" y="4724280"/>
            <a:ext cx="380880" cy="381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562720" y="2057400"/>
            <a:ext cx="19810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2057400"/>
            <a:ext cx="26668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  komunik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9480" y="266688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ezent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2767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s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49568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i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51055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8862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ranspor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57150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2240" y="572616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izycz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9960" y="511668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Łącza da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3276720"/>
            <a:ext cx="464832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34290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3657600"/>
            <a:ext cx="83844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52680" y="2097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2133720"/>
            <a:ext cx="6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29200" y="487692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ddlewar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/>
          <p:nvPr/>
        </p:nvSpPr>
        <p:spPr>
          <a:xfrm>
            <a:off x="4269600" y="5638680"/>
            <a:ext cx="36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arstwa Pośredniczą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38862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CP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44197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2286000"/>
            <a:ext cx="457200" cy="380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2286000"/>
            <a:ext cx="457200" cy="38088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rstwa pośredniczą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429000" y="213372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ddlewar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76520" y="3048120"/>
            <a:ext cx="1447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RBA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638680" y="3124080"/>
            <a:ext cx="1295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5e467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COM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cc99ff"/>
                  </a:gs>
                  <a:gs pos="100000">
                    <a:srgbClr val="5e467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1906560" y="3809880"/>
            <a:ext cx="82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4419720"/>
            <a:ext cx="20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Arial"/>
              </a:rPr>
              <a:t>Micro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7640" y="5791320"/>
            <a:ext cx="51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Środowiska obiektow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504960" y="297180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297180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114800" y="4038480"/>
            <a:ext cx="91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MI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4194000" y="4800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30481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iekt a K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00200" y="2743200"/>
            <a:ext cx="1295280" cy="1143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9760" y="3124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2743200"/>
            <a:ext cx="13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9760" y="350532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5800" y="19810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fe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1676520"/>
            <a:ext cx="300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mplement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per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3124080"/>
            <a:ext cx="762120" cy="228600"/>
          </a:xfrm>
          <a:prstGeom prst="leftRightArrow">
            <a:avLst>
              <a:gd name="adj1" fmla="val 50000"/>
              <a:gd name="adj2" fmla="val 6636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2438280"/>
            <a:ext cx="1905120" cy="167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3446640"/>
            <a:ext cx="838080" cy="2332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3089160"/>
            <a:ext cx="457200" cy="954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2889360"/>
            <a:ext cx="75960" cy="466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2784600"/>
            <a:ext cx="609840" cy="31104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2895480"/>
            <a:ext cx="152640" cy="15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276720"/>
            <a:ext cx="1143000" cy="152280"/>
          </a:xfrm>
          <a:prstGeom prst="leftRightArrow">
            <a:avLst>
              <a:gd name="adj1" fmla="val 50000"/>
              <a:gd name="adj2" fmla="val 149423"/>
            </a:avLst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438280"/>
            <a:ext cx="129528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4724280"/>
            <a:ext cx="13716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trospe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9120800">
            <a:off x="2437920" y="3962160"/>
            <a:ext cx="1447920" cy="304560"/>
          </a:xfrm>
          <a:prstGeom prst="leftRightArrow">
            <a:avLst>
              <a:gd name="adj1" fmla="val 50000"/>
              <a:gd name="adj2" fmla="val 94642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3200400"/>
            <a:ext cx="457200" cy="3808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3581280"/>
            <a:ext cx="457200" cy="3812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3581280"/>
            <a:ext cx="457200" cy="3812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3200400"/>
            <a:ext cx="457200" cy="3808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5410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5410080"/>
            <a:ext cx="13716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ezpi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zeńs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4572000"/>
            <a:ext cx="13716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łącz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2866400">
            <a:off x="5105160" y="3962160"/>
            <a:ext cx="1447560" cy="152280"/>
          </a:xfrm>
          <a:prstGeom prst="leftRightArrow">
            <a:avLst>
              <a:gd name="adj1" fmla="val 50000"/>
              <a:gd name="adj2" fmla="val 18923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7826600">
            <a:off x="3127320" y="4600800"/>
            <a:ext cx="1295280" cy="304920"/>
          </a:xfrm>
          <a:prstGeom prst="leftRightArrow">
            <a:avLst>
              <a:gd name="adj1" fmla="val 50000"/>
              <a:gd name="adj2" fmla="val 8456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4271000">
            <a:off x="4533840" y="4609440"/>
            <a:ext cx="1447560" cy="152640"/>
          </a:xfrm>
          <a:prstGeom prst="leftRightArrow">
            <a:avLst>
              <a:gd name="adj1" fmla="val 50000"/>
              <a:gd name="adj2" fmla="val 188792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32280" y="542124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utokon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4400" y="2057400"/>
            <a:ext cx="243828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2743200"/>
            <a:ext cx="1295640" cy="990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2286000"/>
            <a:ext cx="2438280" cy="16002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5029200"/>
            <a:ext cx="7238880" cy="1447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itektura 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5800" y="4038480"/>
            <a:ext cx="777240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3048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334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35812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3048120"/>
            <a:ext cx="60984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5812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0815000">
            <a:off x="72385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0815000">
            <a:off x="12949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0815000">
            <a:off x="1905120" y="48006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15000">
            <a:off x="65527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0815000">
            <a:off x="2590920" y="48006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41000" y="414036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R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1320" y="601992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USLUGI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SYSTEMOWE COR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2362320"/>
            <a:ext cx="20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cc"/>
                </a:solidFill>
                <a:latin typeface="Arial"/>
              </a:rPr>
              <a:t>STANDARDOW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pl-PL" sz="1400" spc="-1" strike="noStrike">
                <a:solidFill>
                  <a:srgbClr val="0000cc"/>
                </a:solidFill>
                <a:latin typeface="Arial"/>
              </a:rPr>
              <a:t>APLIKAC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1981080"/>
            <a:ext cx="19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APLIKAC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UŻYTKOWN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123720" y="2743200"/>
            <a:ext cx="838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362320" y="2285640"/>
            <a:ext cx="160020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39920" y="21528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26240" y="257508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ie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5334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815000">
            <a:off x="58669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71600" y="2971800"/>
            <a:ext cx="0" cy="838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674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1532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omunikacja pomiędzy obiekt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38080" y="4648320"/>
            <a:ext cx="7772400" cy="761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2514600"/>
            <a:ext cx="60948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29400" y="42670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2514600"/>
            <a:ext cx="60948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42670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3962520"/>
            <a:ext cx="281952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3962520"/>
            <a:ext cx="29718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3352680"/>
            <a:ext cx="5335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246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3352680"/>
            <a:ext cx="5331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3352680"/>
            <a:ext cx="5331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3352680"/>
            <a:ext cx="5335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3352680"/>
            <a:ext cx="53352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87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62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536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074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72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508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8876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506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99200" y="480996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  I  O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4267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38280" y="502920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781680" y="42667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876920"/>
            <a:ext cx="121932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752480" y="2819520"/>
            <a:ext cx="1143000" cy="99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e organizacji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752480" y="2666880"/>
            <a:ext cx="114300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52480" y="4419720"/>
            <a:ext cx="114300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91320" y="2666880"/>
            <a:ext cx="114300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3886200"/>
            <a:ext cx="1143000" cy="99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4419720"/>
            <a:ext cx="1143000" cy="99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4952880"/>
            <a:ext cx="1143000" cy="7621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5486400"/>
            <a:ext cx="1143000" cy="7621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48769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38098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48520" y="32767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640" y="182736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wupoziom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0080" y="182736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ójpoziom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22320" y="2678040"/>
            <a:ext cx="169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Interfe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użytkow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91520" y="3932280"/>
            <a:ext cx="11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r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5486400"/>
            <a:ext cx="15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rządz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9160" y="644688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20280" y="64468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onsekwencje modelu trójpoziom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447920" y="1905120"/>
            <a:ext cx="38088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3480" y="1905120"/>
            <a:ext cx="519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iezależność konstrukcji serw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plikacji od interfejsu użytkow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3048120"/>
            <a:ext cx="38088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4480" y="2971800"/>
            <a:ext cx="50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iezależność konstrukcji serw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plikacji od interfejsu dostępu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95680" y="40384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4876920"/>
            <a:ext cx="48006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ożliwość standary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16640" y="6095880"/>
            <a:ext cx="430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Nowy poziom usług system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6T15:23:20Z</dcterms:created>
  <dc:creator>K.Z.</dc:creator>
  <dc:description/>
  <dc:language>en-US</dc:language>
  <cp:lastModifiedBy>K.Z.</cp:lastModifiedBy>
  <cp:lastPrinted>1998-09-21T07:40:02Z</cp:lastPrinted>
  <dcterms:modified xsi:type="dcterms:W3CDTF">1998-11-29T15:14:48Z</dcterms:modified>
  <cp:revision>46</cp:revision>
  <dc:subject/>
  <dc:title>Bez tytułu slajdu</dc:title>
</cp:coreProperties>
</file>