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6421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D8B2-0325-45C1-BD8E-1FC714197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1FDC-6171-46A6-9BE7-1B4C1614F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08F4-80C3-499F-952A-3F9376ABE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C4AE-CCBE-43C1-B230-8165DF7BC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42BA-62FE-4AE5-AA96-B91FE0F11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D14F-F739-4739-B35C-158DAFFBA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A4B9-B614-4E65-A879-CF198AEA5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E343-516E-4302-8ECB-35988D28C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3DBA-A250-4F6E-842C-6BE2DE7AA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E03C-0D64-4029-B7D9-C9FD1FF69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8E45-3091-41AA-A998-F07FAE8F6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9C3A-5D52-490D-843C-E6ECAE21A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DF917-EE11-45BA-844E-19EF1D3438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hyperlink" Target="C:\WINDOWS\rundll32.exe amovie.ocx,RunDll /play /close c:\home\bokun\sun\sun.mpg" TargetMode="External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WSPM - Wirtualny System Plików Multimedialnych</a:t>
            </a:r>
            <a:br>
              <a:rPr sz="3600"/>
            </a:br>
            <a:br>
              <a:rPr sz="20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7320" y="4937040"/>
            <a:ext cx="764208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gor BOKUN, Stanisław STRELNIK, Krzysztof ZIELIŃSKI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Katedra Informatyki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Akademia Górniczo-Hutnic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Times New Roman"/>
              </a:rPr>
              <a:t>Podstawowe operac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219320" y="4572000"/>
            <a:ext cx="63608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38080" y="1904040"/>
            <a:ext cx="74678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185760" indent="-185760">
              <a:buClr>
                <a:srgbClr val="000000"/>
              </a:buClr>
              <a:buFont typeface="Times New Roman"/>
              <a:buChar char="•"/>
              <a:tabLst>
                <a:tab algn="l" pos="1236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000000"/>
                </a:solidFill>
                <a:latin typeface="Times New Roman"/>
              </a:rPr>
              <a:t>play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Rozpoczęcie transmisji wybranego filmu do wybranego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odbiorcy. Aby możliwa była transmisja, film musi być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umieszczony na video-serwerz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buClr>
                <a:srgbClr val="000000"/>
              </a:buClr>
              <a:buFont typeface="Times New Roman"/>
              <a:buChar char="•"/>
              <a:tabLst>
                <a:tab algn="l" pos="1236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000000"/>
                </a:solidFill>
                <a:latin typeface="Times New Roman"/>
              </a:rPr>
              <a:t>insert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stawienie nowego pliku MPEG do WSPM. Źródło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strumienia MPEG podawane jako paramert operacj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buClr>
                <a:srgbClr val="000000"/>
              </a:buClr>
              <a:buFont typeface="Times New Roman"/>
              <a:buChar char="•"/>
              <a:tabLst>
                <a:tab algn="l" pos="1236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Żądanie przygotowania filmu do odtwarzania na określony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dzień/godzinę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buClr>
                <a:srgbClr val="000000"/>
              </a:buClr>
              <a:buFont typeface="Times New Roman"/>
              <a:buChar char="•"/>
              <a:tabLst>
                <a:tab algn="l" pos="1236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000000"/>
                </a:solidFill>
                <a:latin typeface="Times New Roman"/>
              </a:rPr>
              <a:t>copy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Stworzenie odsyłacza do danego film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buClr>
                <a:srgbClr val="000000"/>
              </a:buClr>
              <a:buFont typeface="Times New Roman"/>
              <a:buChar char="•"/>
              <a:tabLst>
                <a:tab algn="l" pos="1236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000000"/>
                </a:solidFill>
                <a:latin typeface="Times New Roman"/>
              </a:rPr>
              <a:t>delete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Usunięcie odsyłacza i ewentualne fizyczne usunięcie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film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buClr>
                <a:srgbClr val="000000"/>
              </a:buClr>
              <a:buFont typeface="Times New Roman"/>
              <a:buChar char="•"/>
              <a:tabLst>
                <a:tab algn="l" pos="1236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000000"/>
                </a:solidFill>
                <a:latin typeface="Times New Roman"/>
              </a:rPr>
              <a:t>cd, mkdir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Operacje na drzewie katalogów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buClr>
                <a:srgbClr val="000000"/>
              </a:buClr>
              <a:buFont typeface="Times New Roman"/>
              <a:buChar char="•"/>
              <a:tabLst>
                <a:tab algn="l" pos="1236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000000"/>
                </a:solidFill>
                <a:latin typeface="Times New Roman"/>
              </a:rPr>
              <a:t>lock, unlock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Zablokowanie filmu na video-serwerz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Times New Roman"/>
              </a:rPr>
              <a:t>Operacja </a:t>
            </a:r>
            <a:r>
              <a:rPr b="1" i="1" lang="pl-PL" sz="2800" spc="-1" strike="noStrike">
                <a:solidFill>
                  <a:srgbClr val="ffffff"/>
                </a:solidFill>
                <a:latin typeface="Times New Roman"/>
              </a:rPr>
              <a:t>requ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219320" y="4572000"/>
            <a:ext cx="63608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2120" y="2147760"/>
            <a:ext cx="767376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185760" indent="-185760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Za realizację operacji odpowiedzialny jest moduł managera żądań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Moduł zapewnia optymalną dystrybucję dokumentów multimedialnych w przypadku występowania wielu video-serwerów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Obsługuje listę żadań, starając się zapewnić realizację wszystkich zleconych zadań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Istnieje możliwość administracyjnej zmiany priorytetu poszczególnych filmów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Możliwość wyboru funkcji priorytet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operacja </a:t>
            </a:r>
            <a:r>
              <a:rPr b="1" i="1" lang="pl-PL" sz="2400" spc="-1" strike="noStrike">
                <a:solidFill>
                  <a:srgbClr val="ffffff"/>
                </a:solidFill>
                <a:latin typeface="Times New Roman"/>
              </a:rPr>
              <a:t>request </a:t>
            </a: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- liniowa funkcja prioryte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219320" y="4572000"/>
            <a:ext cx="63608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2133720" y="1905120"/>
          <a:ext cx="4794120" cy="4052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33720" y="1905120"/>
                    <a:ext cx="4794120" cy="40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operacja </a:t>
            </a:r>
            <a:r>
              <a:rPr b="1" i="1" lang="pl-PL" sz="2400" spc="-1" strike="noStrike">
                <a:solidFill>
                  <a:srgbClr val="ffffff"/>
                </a:solidFill>
                <a:latin typeface="Times New Roman"/>
              </a:rPr>
              <a:t>request </a:t>
            </a: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- funkcja priorytetu arcus tang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219320" y="4572000"/>
            <a:ext cx="63608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2133720" y="1905120"/>
          <a:ext cx="4794120" cy="4052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33720" y="1905120"/>
                    <a:ext cx="4794120" cy="40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operacja </a:t>
            </a:r>
            <a:r>
              <a:rPr b="1" i="1" lang="pl-PL" sz="2400" spc="-1" strike="noStrike">
                <a:solidFill>
                  <a:srgbClr val="ffffff"/>
                </a:solidFill>
                <a:latin typeface="Times New Roman"/>
              </a:rPr>
              <a:t>request </a:t>
            </a: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- skokowa funkcja prioryte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219320" y="4572000"/>
            <a:ext cx="63608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2133720" y="1905120"/>
          <a:ext cx="4794120" cy="4052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33720" y="1905120"/>
                    <a:ext cx="4794120" cy="40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ziałanie W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219320" y="4572000"/>
            <a:ext cx="63608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685800" y="2133720"/>
          <a:ext cx="3905280" cy="3666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6" name="" descr="">
                    <a:hlinkClick r:id="rId3"/>
                  </p:cNvPr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2133720"/>
                    <a:ext cx="3905280" cy="36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odsumowan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219320" y="4572000"/>
            <a:ext cx="63608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14400" y="2005200"/>
            <a:ext cx="6934320" cy="39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185760" indent="-185760">
              <a:spcAft>
                <a:spcPts val="876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System przeszedł fazę implementacji. Wykonane zostały pierwsze testy, jednak niezbędne jest dokonanie obszernych testów celem ustalenia optymalnych parametrów pracy system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Zostały zaimplementowane pierwsze aplikacje w języku Java wykorzystające Java MediaFramework oraz WSP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Zastosowanie technologii CORBA umożliwiło integrację wielu odmiennych środowisk programowania oraz protokołów sterowania urządzeniami. jak również ułatwiło realizację projektu przez niezależne grup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Trwają prace nad implementacją mechanizmów zwiększających bezpieczeństwo system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2285640" y="2361960"/>
            <a:ext cx="4724280" cy="327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Główne założenia projek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latforma sprzętowa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Architektura system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odstawowe operac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Działanie W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odsumowan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lan refera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Główne założenia projek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219320" y="4572000"/>
            <a:ext cx="63608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90720" y="2019600"/>
            <a:ext cx="7073640" cy="38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185760" indent="-185760"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stworzenie jednolitej z punktu widzenia użytkownika przestrzeni plików multimedialny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automatyczne zarządzanie dokumentami przechowywanymi w system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obsługa dużych ilości dokumentów multimedialnych - kilkaset pełnometrażowych filmó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skalowalność oraz możliwość adaptacji systemu do nowych rozwiązań sprzętowy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rosty interfejs umożliwiający tworzenie aplikacji-klientów w wizualnych środowiskach programowania, takich jak np. 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Symantec Visual Caf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latforma sprzętow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219320" y="4572000"/>
            <a:ext cx="63608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972160" y="1676520"/>
            <a:ext cx="35103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Times New Roman"/>
              </a:rPr>
              <a:t>Sun Media Cent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smc" descr=""/>
          <p:cNvPicPr/>
          <p:nvPr/>
        </p:nvPicPr>
        <p:blipFill>
          <a:blip r:embed="rId2"/>
          <a:stretch/>
        </p:blipFill>
        <p:spPr>
          <a:xfrm>
            <a:off x="685800" y="2514600"/>
            <a:ext cx="1936800" cy="148608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56" name=""/>
          <p:cNvSpPr/>
          <p:nvPr/>
        </p:nvSpPr>
        <p:spPr>
          <a:xfrm>
            <a:off x="685800" y="4495320"/>
            <a:ext cx="7086600" cy="16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Moduły programowe wykorzystywane w projekcie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ff00"/>
                </a:solidFill>
                <a:latin typeface="Times New Roman"/>
              </a:rPr>
              <a:t>Content Manager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- umożliwia wprowadzanie plików MPEG do multimedialnego systemu plików SM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ff00"/>
                </a:solidFill>
                <a:latin typeface="Times New Roman"/>
              </a:rPr>
              <a:t>Stream Manager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- umożliwia odtwarzanie przechowywanych plików multimedialny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819520" y="2209320"/>
            <a:ext cx="5867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185760" indent="-1857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hardware, system operacyjny, system plików specjalizowany do zastosowań multimedialny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macierz dyskowa o dużej pojemności - 50 G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obsługa plików w standardzie MPEG-1 oraz MPEG-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interfejsy Ethernet 100 Mb, ATM, analogowy - telewizja kablow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platforma sprzętowa c.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371600" y="4648320"/>
            <a:ext cx="63612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52680" y="1676520"/>
            <a:ext cx="51242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Times New Roman"/>
              </a:rPr>
              <a:t>Robot taśmowy ACL 264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acl2640" descr=""/>
          <p:cNvPicPr/>
          <p:nvPr/>
        </p:nvPicPr>
        <p:blipFill>
          <a:blip r:embed="rId2"/>
          <a:stretch/>
        </p:blipFill>
        <p:spPr>
          <a:xfrm>
            <a:off x="685800" y="1676520"/>
            <a:ext cx="2381400" cy="40384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069000" y="2361600"/>
            <a:ext cx="4392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marL="95400" indent="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ojemność całkowita 2.64 T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rzepustowość biblioteki - 13.5 GB/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3 niezależne napędy taśmow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264 taśm o pojemności 10 GB każ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rędkość transmisji pojedynczego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czytnika- 1.25 MB/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typ kasety - Compac Tape I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352680" y="4952520"/>
            <a:ext cx="388620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Interfejsy dostępu do bibliotek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 u="sng">
                <a:solidFill>
                  <a:srgbClr val="00ff00"/>
                </a:solidFill>
                <a:uFillTx/>
                <a:latin typeface="Times New Roman"/>
              </a:rPr>
              <a:t>File Transfer Protocol (FT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ff00"/>
                </a:solidFill>
                <a:latin typeface="Times New Roman"/>
              </a:rPr>
              <a:t>Network File System (NF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platforma sprzętowa c.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219320" y="4572000"/>
            <a:ext cx="63608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105160" y="2286000"/>
            <a:ext cx="26614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-Point 6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2120" y="3657240"/>
            <a:ext cx="792468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98280" indent="-98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sprzętowy koder MPEG-1wyposażony w interfejs Ether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8280" indent="-98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kompresja w czasie rzeczywistym ze stałym opóźnieniem rzędu 1 se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8280" indent="-98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obsługiwane rozdzielczości: 352x288 (SIF) lub 176x144 (QSI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742040" y="5105160"/>
            <a:ext cx="522000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Interfejs sterowania urządzenie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ff00"/>
                </a:solidFill>
                <a:latin typeface="Times New Roman"/>
              </a:rPr>
              <a:t>Open Media Device Control Interface (OMDC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ff00"/>
                </a:solidFill>
                <a:latin typeface="Times New Roman"/>
              </a:rPr>
              <a:t>Otoczka obiektowa CORBA na bazie OMDC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685800" y="1676520"/>
          <a:ext cx="3962520" cy="1803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1676520"/>
                    <a:ext cx="3962520" cy="1803240"/>
                  </a:xfrm>
                  <a:prstGeom prst="rect">
                    <a:avLst/>
                  </a:prstGeom>
                  <a:ln w="9360">
                    <a:solidFill>
                      <a:srgbClr val="3333cc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platforma sprzętowa c.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219320" y="4572000"/>
            <a:ext cx="63608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143000" y="1676520"/>
            <a:ext cx="648504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Konfiguracja sieci komputerowej wykorzystywanej do testów system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1295280" y="2971800"/>
          <a:ext cx="6512040" cy="3076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95280" y="2971800"/>
                    <a:ext cx="6512040" cy="30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rchitektura system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219320" y="4572000"/>
            <a:ext cx="63608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1371600" y="1981080"/>
          <a:ext cx="5904000" cy="3984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71600" y="1981080"/>
                    <a:ext cx="5904000" cy="398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Times New Roman"/>
              </a:rPr>
              <a:t>Architektura głównego serwera W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219320" y="4572000"/>
            <a:ext cx="63608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1219320" y="2362320"/>
          <a:ext cx="6659280" cy="2903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19320" y="2362320"/>
                    <a:ext cx="6659280" cy="290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5-24T20:16:34Z</dcterms:created>
  <dc:creator>AGH</dc:creator>
  <dc:description/>
  <dc:language>en-US</dc:language>
  <cp:lastModifiedBy>K.Z.</cp:lastModifiedBy>
  <cp:lastPrinted>1998-03-16T08:12:04Z</cp:lastPrinted>
  <dcterms:modified xsi:type="dcterms:W3CDTF">1998-09-18T18:33:17Z</dcterms:modified>
  <cp:revision>81</cp:revision>
  <dc:subject/>
  <dc:title>Narzêdzie do testowania</dc:title>
</cp:coreProperties>
</file>