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FE5F-807D-45FA-89AF-19A8B8F9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91FE-EC8D-44FD-9842-7129E7DF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CF89-1494-485D-BDA7-351184C4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80D3-A727-4A6B-AEC8-8B5F029C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E311-EE57-45E2-B67D-B6B944AF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BE0B-5AF0-4185-85D5-0BCB8296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A1D5-CF31-4A2B-8842-C44632D2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65B3-9941-4279-80C5-6B9FADEE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5D35-936C-4465-B14A-98113B74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245D-7D39-47FD-AD95-78E01B46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C6C7-0860-4736-A571-5EBF9444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E925-31ED-4229-93F0-B6DE9620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ACC0-A362-4CB8-856E-09438DBFE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WINDOWS\rundll32.exe amovie.ocx,RunDll /play /close c:\home\kz\sun.mpg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home\bokun\camera\vic.bat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2590920"/>
            <a:ext cx="7086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1e1e7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Nowoczesne Rozproszone System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1e1e7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1e1e7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omputerow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1e1e7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581280" y="4648320"/>
            <a:ext cx="2057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rzysztof Zielińsk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atedra Informatyk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kademia Górniczo-Hutnicza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371600" y="2971800"/>
            <a:ext cx="0" cy="8380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98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812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4674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532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omunikacja pomiędzy obiekt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838080" y="4648320"/>
            <a:ext cx="7772400" cy="7617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2514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448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05320" y="2514600"/>
            <a:ext cx="60948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Cob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1008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426708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62920" y="2514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2514600"/>
            <a:ext cx="60948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0" y="426708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3962520"/>
            <a:ext cx="281952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81480" y="3962520"/>
            <a:ext cx="29718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3352680"/>
            <a:ext cx="53352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92468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Cob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5120" y="3352680"/>
            <a:ext cx="53316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3352680"/>
            <a:ext cx="53316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533160" cy="2286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43200" y="3352680"/>
            <a:ext cx="53352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248520" y="3352680"/>
            <a:ext cx="533160" cy="2286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86600" y="3352680"/>
            <a:ext cx="533520" cy="2286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48720" y="3352680"/>
            <a:ext cx="533160" cy="2286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62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536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074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072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08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8876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506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099200" y="4809960"/>
            <a:ext cx="13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I  I  O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38280" y="4267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438280" y="5029200"/>
            <a:ext cx="43434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781680" y="42667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29000" y="4876920"/>
            <a:ext cx="1219320" cy="228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752480" y="2819520"/>
            <a:ext cx="1143000" cy="99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dele organizacji syst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752480" y="2666880"/>
            <a:ext cx="114300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52480" y="4419720"/>
            <a:ext cx="114300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91320" y="2666880"/>
            <a:ext cx="114300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91320" y="3886200"/>
            <a:ext cx="1143000" cy="99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52480" y="4419720"/>
            <a:ext cx="1143000" cy="99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4952880"/>
            <a:ext cx="1143000" cy="7621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91320" y="5486400"/>
            <a:ext cx="1143000" cy="7621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48520" y="48769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3809880"/>
            <a:ext cx="228600" cy="609840"/>
          </a:xfrm>
          <a:prstGeom prst="upDownArrow">
            <a:avLst>
              <a:gd name="adj1" fmla="val 50000"/>
              <a:gd name="adj2" fmla="val 53107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48520" y="32767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95640" y="1827360"/>
            <a:ext cx="24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wupoziom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10080" y="182736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ójpoziom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22320" y="2678040"/>
            <a:ext cx="169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pl-PL" sz="2000" spc="-1" strike="noStrike">
                <a:solidFill>
                  <a:srgbClr val="3333cc"/>
                </a:solidFill>
                <a:latin typeface="Arial"/>
              </a:rPr>
              <a:t>Interfej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Arial"/>
              </a:rPr>
              <a:t>użytkown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391520" y="3932280"/>
            <a:ext cx="118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r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l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14840" y="5486400"/>
            <a:ext cx="152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Urządz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29160" y="644688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S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20280" y="64468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N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Środowiska oprogramow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274" name="javalogo52x88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219320" y="2286000"/>
            <a:ext cx="11430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19320" y="3505320"/>
            <a:ext cx="1143000" cy="99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19320" y="5105520"/>
            <a:ext cx="1143000" cy="7617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76520" y="4495680"/>
            <a:ext cx="228600" cy="609840"/>
          </a:xfrm>
          <a:prstGeom prst="upDownArrow">
            <a:avLst>
              <a:gd name="adj1" fmla="val 50000"/>
              <a:gd name="adj2" fmla="val 53107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76520" y="2895480"/>
            <a:ext cx="228600" cy="609840"/>
          </a:xfrm>
          <a:prstGeom prst="upDownArrow">
            <a:avLst>
              <a:gd name="adj1" fmla="val 50000"/>
              <a:gd name="adj2" fmla="val 53107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83080" y="396252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ORB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396252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Arial"/>
              </a:rPr>
              <a:t>Orbel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87680" y="396252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Arial"/>
              </a:rPr>
              <a:t>OmniO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164000" y="243828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Arial"/>
              </a:rPr>
              <a:t>Orbix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657600" y="2438280"/>
            <a:ext cx="1152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WW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5" name=""/>
          <p:cNvSpPr/>
          <p:nvPr/>
        </p:nvSpPr>
        <p:spPr>
          <a:xfrm>
            <a:off x="3582360" y="510372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Object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04240" y="556092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Oracle  Inform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690960" y="5145120"/>
            <a:ext cx="196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Kamer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erwery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09680" y="3429000"/>
            <a:ext cx="6629400" cy="0"/>
          </a:xfrm>
          <a:prstGeom prst="line">
            <a:avLst/>
          </a:prstGeom>
          <a:ln w="9360">
            <a:solidFill>
              <a:srgbClr val="cc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57400" y="4952880"/>
            <a:ext cx="6629400" cy="0"/>
          </a:xfrm>
          <a:prstGeom prst="line">
            <a:avLst/>
          </a:prstGeom>
          <a:ln w="9360">
            <a:solidFill>
              <a:srgbClr val="cc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971800" y="3733920"/>
            <a:ext cx="175248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zykładowe projekty KI AGH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990720" y="3809880"/>
            <a:ext cx="13716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RIT -2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990720" y="2209680"/>
            <a:ext cx="11430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Bng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990720" y="5334120"/>
            <a:ext cx="1752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ECCANO</a:t>
            </a:r>
            <a:endParaRPr b="0" lang="en-US" sz="2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97" name="oraclelogo" descr=""/>
          <p:cNvPicPr/>
          <p:nvPr/>
        </p:nvPicPr>
        <p:blipFill>
          <a:blip r:embed="rId8"/>
          <a:stretch/>
        </p:blipFill>
        <p:spPr>
          <a:xfrm>
            <a:off x="2895480" y="2057400"/>
            <a:ext cx="1505160" cy="257040"/>
          </a:xfrm>
          <a:prstGeom prst="rect">
            <a:avLst/>
          </a:prstGeom>
          <a:ln w="0">
            <a:noFill/>
          </a:ln>
        </p:spPr>
      </p:pic>
      <p:pic>
        <p:nvPicPr>
          <p:cNvPr id="298" name="orllogo" descr=""/>
          <p:cNvPicPr/>
          <p:nvPr/>
        </p:nvPicPr>
        <p:blipFill>
          <a:blip r:embed="rId9"/>
          <a:stretch/>
        </p:blipFill>
        <p:spPr>
          <a:xfrm>
            <a:off x="2895480" y="243828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050640" y="37339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35720" y="37339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971800" y="4952880"/>
            <a:ext cx="1362240" cy="3988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ff"/>
                </a:solidFill>
                <a:latin typeface="Times New Roman"/>
              </a:rPr>
              <a:t>Telema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968560" y="5562720"/>
            <a:ext cx="3102120" cy="3988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UCL,  HP,  INRIA, CCS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362320"/>
            <a:ext cx="251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Systemy wrażli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na lokalizac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26280" y="3886200"/>
            <a:ext cx="224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Komponent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system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629400" y="510552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MM w sie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stemy wrażliwe na lokalizację  (W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09" name="spirit" descr=""/>
          <p:cNvPicPr/>
          <p:nvPr/>
        </p:nvPicPr>
        <p:blipFill>
          <a:blip r:embed="rId2"/>
          <a:stretch/>
        </p:blipFill>
        <p:spPr>
          <a:xfrm>
            <a:off x="1676520" y="1828800"/>
            <a:ext cx="6019560" cy="38336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2511720" y="5867280"/>
            <a:ext cx="43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irtualny świat  a lokalizac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stem B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14" name="ic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5410080" cy="3886200"/>
          </a:xfrm>
          <a:prstGeom prst="rect">
            <a:avLst/>
          </a:prstGeom>
          <a:ln w="0">
            <a:noFill/>
          </a:ln>
        </p:spPr>
      </p:pic>
      <p:pic>
        <p:nvPicPr>
          <p:cNvPr id="315" name="theory" descr=""/>
          <p:cNvPicPr/>
          <p:nvPr/>
        </p:nvPicPr>
        <p:blipFill>
          <a:blip r:embed="rId3"/>
          <a:stretch/>
        </p:blipFill>
        <p:spPr>
          <a:xfrm>
            <a:off x="6095880" y="2743200"/>
            <a:ext cx="27147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ktywna  plakietka  systemu BA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19" name="nb" descr=""/>
          <p:cNvPicPr/>
          <p:nvPr/>
        </p:nvPicPr>
        <p:blipFill>
          <a:blip r:embed="rId2"/>
          <a:stretch/>
        </p:blipFill>
        <p:spPr>
          <a:xfrm>
            <a:off x="2514600" y="2514600"/>
            <a:ext cx="380988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kietki Systemu 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23" name="badges" descr=""/>
          <p:cNvPicPr/>
          <p:nvPr/>
        </p:nvPicPr>
        <p:blipFill>
          <a:blip r:embed="rId2"/>
          <a:stretch/>
        </p:blipFill>
        <p:spPr>
          <a:xfrm>
            <a:off x="1219320" y="2057400"/>
            <a:ext cx="655308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rchitektura systemu W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27" name="architecture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6269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tforma sprzętowa W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2133720" y="2971800"/>
            <a:ext cx="5333760" cy="160020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acl2640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2438280" cy="3886200"/>
          </a:xfrm>
          <a:prstGeom prst="rect">
            <a:avLst/>
          </a:prstGeom>
          <a:ln w="0">
            <a:noFill/>
          </a:ln>
        </p:spPr>
      </p:pic>
      <p:pic>
        <p:nvPicPr>
          <p:cNvPr id="333" name="smc" descr=""/>
          <p:cNvPicPr/>
          <p:nvPr/>
        </p:nvPicPr>
        <p:blipFill>
          <a:blip r:embed="rId3"/>
          <a:stretch/>
        </p:blipFill>
        <p:spPr>
          <a:xfrm>
            <a:off x="6324480" y="2743200"/>
            <a:ext cx="2057400" cy="2133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34" name=""/>
          <p:cNvSpPr/>
          <p:nvPr/>
        </p:nvSpPr>
        <p:spPr>
          <a:xfrm>
            <a:off x="3202200" y="19810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64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377480" y="20937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50 G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5866920"/>
            <a:ext cx="3276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obot taśm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CL 26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83480" y="510552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SUN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kres wykła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3880" y="2590920"/>
            <a:ext cx="381240" cy="380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680" y="259092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ojęcia podstaw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4800600"/>
            <a:ext cx="381240" cy="380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3733920"/>
            <a:ext cx="38124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38640" y="3657600"/>
            <a:ext cx="46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rchitektury i oprogramow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41160" y="472428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zykłady systemów rozproszo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c0c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chitektura systemu  W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05120" y="3581280"/>
            <a:ext cx="5486400" cy="205740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acl2640" descr=""/>
          <p:cNvPicPr/>
          <p:nvPr/>
        </p:nvPicPr>
        <p:blipFill>
          <a:blip r:embed="rId2"/>
          <a:stretch/>
        </p:blipFill>
        <p:spPr>
          <a:xfrm>
            <a:off x="1295280" y="3809880"/>
            <a:ext cx="838440" cy="1295640"/>
          </a:xfrm>
          <a:prstGeom prst="rect">
            <a:avLst/>
          </a:prstGeom>
          <a:ln w="0">
            <a:noFill/>
          </a:ln>
        </p:spPr>
      </p:pic>
      <p:pic>
        <p:nvPicPr>
          <p:cNvPr id="343" name="smc" descr=""/>
          <p:cNvPicPr/>
          <p:nvPr/>
        </p:nvPicPr>
        <p:blipFill>
          <a:blip r:embed="rId3"/>
          <a:stretch/>
        </p:blipFill>
        <p:spPr>
          <a:xfrm>
            <a:off x="7238880" y="4267080"/>
            <a:ext cx="685800" cy="762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44" name=""/>
          <p:cNvSpPr/>
          <p:nvPr/>
        </p:nvSpPr>
        <p:spPr>
          <a:xfrm>
            <a:off x="6629400" y="480060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81080" y="472428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267080" y="342900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09680" y="4343400"/>
            <a:ext cx="4876920" cy="3049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09680" y="2438280"/>
            <a:ext cx="9144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114800" y="2438280"/>
            <a:ext cx="9144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943600" y="2438280"/>
            <a:ext cx="9144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95680" y="2895480"/>
            <a:ext cx="228600" cy="609840"/>
          </a:xfrm>
          <a:prstGeom prst="upDownArrow">
            <a:avLst>
              <a:gd name="adj1" fmla="val 50000"/>
              <a:gd name="adj2" fmla="val 53107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 rot="3532800">
            <a:off x="5601600" y="2551680"/>
            <a:ext cx="188640" cy="1486080"/>
          </a:xfrm>
          <a:prstGeom prst="upDownArrow">
            <a:avLst>
              <a:gd name="adj1" fmla="val 50000"/>
              <a:gd name="adj2" fmla="val 156828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 rot="17667000">
            <a:off x="3331080" y="2459160"/>
            <a:ext cx="195120" cy="1676160"/>
          </a:xfrm>
          <a:prstGeom prst="upDownArrow">
            <a:avLst>
              <a:gd name="adj1" fmla="val 50000"/>
              <a:gd name="adj2" fmla="val 171013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09680" y="44956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0" y="44956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0" y="40384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76720" y="49528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267800" y="426708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 I O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WFS interface użytkow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62" name="vfs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86200" y="2057400"/>
            <a:ext cx="46483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63" name=""/>
          <p:cNvCxnSpPr>
            <a:stCxn id="364" idx="4"/>
            <a:endCxn id="365" idx="3"/>
          </p:cNvCxnSpPr>
          <p:nvPr/>
        </p:nvCxnSpPr>
        <p:spPr>
          <a:xfrm flipH="1" rot="16200000">
            <a:off x="6933240" y="3162240"/>
            <a:ext cx="1982160" cy="610200"/>
          </a:xfrm>
          <a:prstGeom prst="curvedConnector5">
            <a:avLst>
              <a:gd name="adj1" fmla="val 47102"/>
              <a:gd name="adj2" fmla="val 68713"/>
              <a:gd name="adj3" fmla="val 47102"/>
            </a:avLst>
          </a:prstGeom>
          <a:ln w="38160">
            <a:solidFill>
              <a:srgbClr val="3333cc"/>
            </a:solidFill>
            <a:miter/>
          </a:ln>
        </p:spPr>
      </p:cxnSp>
      <p:sp>
        <p:nvSpPr>
          <p:cNvPr id="366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chemat prezent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7162920" y="2819520"/>
            <a:ext cx="838080" cy="28548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315200" y="2514600"/>
            <a:ext cx="457200" cy="954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238880" y="2209680"/>
            <a:ext cx="76320" cy="57168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315200" y="2133720"/>
            <a:ext cx="609480" cy="38088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2286000"/>
            <a:ext cx="152280" cy="190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rId2"/>
          </p:cNvPr>
          <p:cNvSpPr/>
          <p:nvPr/>
        </p:nvSpPr>
        <p:spPr>
          <a:xfrm>
            <a:off x="1828800" y="3124080"/>
            <a:ext cx="5334120" cy="205740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9480" y="3352680"/>
            <a:ext cx="1568520" cy="12956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3520" y="3276720"/>
            <a:ext cx="91440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67280" y="2514600"/>
            <a:ext cx="990720" cy="8380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19920" y="2590920"/>
            <a:ext cx="761760" cy="685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867280" y="5029200"/>
            <a:ext cx="990720" cy="8380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19920" y="5029200"/>
            <a:ext cx="761760" cy="685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layer" descr=""/>
          <p:cNvPicPr/>
          <p:nvPr/>
        </p:nvPicPr>
        <p:blipFill>
          <a:blip r:embed="rId6"/>
          <a:stretch/>
        </p:blipFill>
        <p:spPr>
          <a:xfrm>
            <a:off x="1371600" y="4038480"/>
            <a:ext cx="685800" cy="5335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2286000" y="3505320"/>
            <a:ext cx="4038480" cy="3045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76720" y="46483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5400000">
            <a:off x="6172200" y="3429000"/>
            <a:ext cx="457200" cy="3045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5400000">
            <a:off x="5600520" y="4000320"/>
            <a:ext cx="1600200" cy="3045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81680" y="4343400"/>
            <a:ext cx="1447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9600">
            <a:off x="2057400" y="4266720"/>
            <a:ext cx="4876920" cy="152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039200" y="35053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 I O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523880" y="3657600"/>
            <a:ext cx="4800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400800" y="32767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934320" y="2895480"/>
            <a:ext cx="228600" cy="1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781680" y="29718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rot="13516800">
            <a:off x="7849080" y="3275640"/>
            <a:ext cx="414360" cy="41580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8381880" y="3733920"/>
            <a:ext cx="15264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610480" y="3733920"/>
            <a:ext cx="30492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39000">
            <a:off x="8229240" y="3352320"/>
            <a:ext cx="6094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>
            <a:stCxn id="394" idx="3"/>
            <a:endCxn id="365" idx="3"/>
          </p:cNvCxnSpPr>
          <p:nvPr/>
        </p:nvCxnSpPr>
        <p:spPr>
          <a:xfrm flipH="1">
            <a:off x="8228880" y="3546360"/>
            <a:ext cx="608760" cy="912240"/>
          </a:xfrm>
          <a:prstGeom prst="curvedConnector5">
            <a:avLst>
              <a:gd name="adj1" fmla="val -38106"/>
              <a:gd name="adj2" fmla="val 49980"/>
              <a:gd name="adj3" fmla="val -38106"/>
            </a:avLst>
          </a:prstGeom>
          <a:ln w="38160">
            <a:solidFill>
              <a:srgbClr val="3333cc"/>
            </a:solidFill>
            <a:miter/>
          </a:ln>
        </p:spPr>
      </p:cxnSp>
      <p:pic>
        <p:nvPicPr>
          <p:cNvPr id="396" name="player" descr=""/>
          <p:cNvPicPr/>
          <p:nvPr/>
        </p:nvPicPr>
        <p:blipFill>
          <a:blip r:embed="rId7"/>
          <a:stretch/>
        </p:blipFill>
        <p:spPr>
          <a:xfrm flipH="1">
            <a:off x="1600200" y="3657600"/>
            <a:ext cx="457200" cy="3538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1600200" y="3657600"/>
            <a:ext cx="45720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752480" y="3809880"/>
            <a:ext cx="15264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828800" y="3733920"/>
            <a:ext cx="763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828800" y="373392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9600">
            <a:off x="2057400" y="4419360"/>
            <a:ext cx="4876920" cy="1522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00ff00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PEG -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143000" y="2286000"/>
            <a:ext cx="7086600" cy="2209680"/>
          </a:xfrm>
          <a:prstGeom prst="ellipse">
            <a:avLst/>
          </a:prstGeom>
          <a:gradFill rotWithShape="0">
            <a:gsLst>
              <a:gs pos="0">
                <a:srgbClr val="000099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143000" y="2514600"/>
            <a:ext cx="5715000" cy="1752480"/>
          </a:xfrm>
          <a:prstGeom prst="ellipse">
            <a:avLst/>
          </a:prstGeom>
          <a:gradFill rotWithShape="0">
            <a:gsLst>
              <a:gs pos="0">
                <a:srgbClr val="000099"/>
              </a:gs>
              <a:gs pos="100000">
                <a:srgbClr val="66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43000" y="2590920"/>
            <a:ext cx="4419720" cy="15238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ozwój technologii oprogramow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143000" y="2895480"/>
            <a:ext cx="2743200" cy="990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19320" y="5181480"/>
            <a:ext cx="7238880" cy="457200"/>
          </a:xfrm>
          <a:prstGeom prst="rightArrow">
            <a:avLst>
              <a:gd name="adj1" fmla="val 50000"/>
              <a:gd name="adj2" fmla="val 39582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371600" y="3276720"/>
            <a:ext cx="1143000" cy="228600"/>
          </a:xfrm>
          <a:prstGeom prst="leftRightArrow">
            <a:avLst>
              <a:gd name="adj1" fmla="val 50000"/>
              <a:gd name="adj2" fmla="val 9953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516040" y="2941560"/>
            <a:ext cx="104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Szy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Kom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886200" y="2941560"/>
            <a:ext cx="158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słu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ystem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623200" y="2906640"/>
            <a:ext cx="12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a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pl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82040" y="2971800"/>
            <a:ext cx="12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rw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pl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630120" y="5867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ozwó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woluc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419" name="evolution" descr=""/>
          <p:cNvPicPr/>
          <p:nvPr/>
        </p:nvPicPr>
        <p:blipFill>
          <a:blip r:embed="rId2"/>
          <a:stretch/>
        </p:blipFill>
        <p:spPr>
          <a:xfrm>
            <a:off x="685800" y="2362320"/>
            <a:ext cx="784872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Pojęcie systemu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rozproszone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2155800">
            <a:off x="3870000" y="4006800"/>
            <a:ext cx="2895480" cy="228600"/>
          </a:xfrm>
          <a:custGeom>
            <a:avLst/>
            <a:gdLst>
              <a:gd name="textAreaLeft" fmla="*/ 452160 w 2895480"/>
              <a:gd name="textAreaRight" fmla="*/ 2533680 w 2895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8716800">
            <a:off x="3200040" y="4114080"/>
            <a:ext cx="3657600" cy="22860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50000">
                <a:srgbClr val="0066ff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6064800">
            <a:off x="6027480" y="3954240"/>
            <a:ext cx="1660680" cy="152640"/>
          </a:xfrm>
          <a:custGeom>
            <a:avLst/>
            <a:gdLst>
              <a:gd name="textAreaLeft" fmla="*/ 259200 w 1660680"/>
              <a:gd name="textAreaRight" fmla="*/ 1453320 w 166068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14400" y="3733920"/>
            <a:ext cx="25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00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OMUNIKACJ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399ff"/>
                  </a:gs>
                  <a:gs pos="100000">
                    <a:srgbClr val="0000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685800"/>
            <a:ext cx="64008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stem rozproszo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95480" y="5410080"/>
            <a:ext cx="838440" cy="762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56386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5334120"/>
            <a:ext cx="838440" cy="76176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556272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29400" y="2362320"/>
            <a:ext cx="838080" cy="76176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53080" y="259092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2362320"/>
            <a:ext cx="838440" cy="761760"/>
          </a:xfrm>
          <a:prstGeom prst="rect">
            <a:avLst/>
          </a:prstGeom>
          <a:gradFill rotWithShape="0">
            <a:gsLst>
              <a:gs pos="0">
                <a:srgbClr val="d60093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25909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0" y="335268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3352680"/>
            <a:ext cx="228600" cy="609840"/>
          </a:xfrm>
          <a:prstGeom prst="upArrow">
            <a:avLst>
              <a:gd name="adj1" fmla="val 50000"/>
              <a:gd name="adj2" fmla="val 6669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5105520"/>
            <a:ext cx="1568520" cy="129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0200" y="2057400"/>
            <a:ext cx="1568520" cy="1295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05520" y="1981080"/>
            <a:ext cx="1568160" cy="12956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7680" y="476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2209680"/>
            <a:ext cx="14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K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83280" y="594360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K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83280" y="220968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K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0" y="4419720"/>
            <a:ext cx="19810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3399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PROGRAMOWANIE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000099"/>
                  </a:gs>
                  <a:gs pos="100000">
                    <a:srgbClr val="3399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315200" y="35053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00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RZĘ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99ff"/>
                  </a:gs>
                  <a:gs pos="100000">
                    <a:srgbClr val="0000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609480"/>
            <a:ext cx="6858000" cy="914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ozproszony system komputer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7696080" y="609480"/>
            <a:ext cx="924120" cy="924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10824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00200" y="5029200"/>
            <a:ext cx="1568520" cy="1295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8320" y="586728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K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44956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441972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3657600"/>
            <a:ext cx="5333760" cy="99072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IE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/>
          <p:nvPr/>
        </p:nvCxnSpPr>
        <p:spPr>
          <a:xfrm flipH="1" rot="16200000">
            <a:off x="3025800" y="2590560"/>
            <a:ext cx="2286720" cy="3505680"/>
          </a:xfrm>
          <a:prstGeom prst="curvedConnector5">
            <a:avLst>
              <a:gd name="adj1" fmla="val 55329"/>
              <a:gd name="adj2" fmla="val 49994"/>
              <a:gd name="adj3" fmla="val 55329"/>
            </a:avLst>
          </a:prstGeom>
          <a:ln w="57240">
            <a:solidFill>
              <a:srgbClr val="000099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2819520"/>
            <a:ext cx="457200" cy="3808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5562720"/>
            <a:ext cx="457200" cy="380880"/>
          </a:xfrm>
          <a:prstGeom prst="rect">
            <a:avLst/>
          </a:prstGeom>
          <a:gradFill rotWithShape="0">
            <a:gsLst>
              <a:gs pos="0">
                <a:srgbClr val="d60093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2895480"/>
            <a:ext cx="838440" cy="0"/>
          </a:xfrm>
          <a:prstGeom prst="line">
            <a:avLst/>
          </a:prstGeom>
          <a:ln w="57240">
            <a:solidFill>
              <a:srgbClr val="3333cc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14400" y="37339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00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RZĘ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99ff"/>
                  </a:gs>
                  <a:gs pos="100000">
                    <a:srgbClr val="0000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14600" y="4724280"/>
            <a:ext cx="2438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75acac"/>
                    </a:gs>
                    <a:gs pos="100000">
                      <a:srgbClr val="0066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IECI KOMPUTEROWE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75acac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867280" y="4038480"/>
            <a:ext cx="84780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2828"/>
                    </a:gs>
                    <a:gs pos="100000">
                      <a:srgbClr val="0066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OKALNE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2828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867280" y="4876920"/>
            <a:ext cx="8953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2828"/>
                    </a:gs>
                    <a:gs pos="100000">
                      <a:srgbClr val="0066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IEJSKIE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2828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867280" y="5791320"/>
            <a:ext cx="93348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2828"/>
                    </a:gs>
                    <a:gs pos="100000">
                      <a:srgbClr val="0066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OZLEGŁE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2828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2057400" y="3962160"/>
            <a:ext cx="838800" cy="610200"/>
          </a:xfrm>
          <a:prstGeom prst="straightConnector1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 flipV="1">
            <a:off x="2057040" y="3123360"/>
            <a:ext cx="762840" cy="686520"/>
          </a:xfrm>
          <a:prstGeom prst="straightConnector1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>
            <a:off x="5028840" y="5181480"/>
            <a:ext cx="762840" cy="610560"/>
          </a:xfrm>
          <a:prstGeom prst="straightConnector1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5028840" y="4190760"/>
            <a:ext cx="762840" cy="524160"/>
          </a:xfrm>
          <a:prstGeom prst="straightConnector1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02" name=""/>
          <p:cNvCxnSpPr/>
          <p:nvPr/>
        </p:nvCxnSpPr>
        <p:spPr>
          <a:xfrm>
            <a:off x="5105160" y="4952520"/>
            <a:ext cx="533880" cy="1080"/>
          </a:xfrm>
          <a:prstGeom prst="straightConnector1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 rot="2386800">
            <a:off x="7259760" y="4952520"/>
            <a:ext cx="1884240" cy="1905120"/>
          </a:xfrm>
          <a:prstGeom prst="irregularSeal2">
            <a:avLst/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43600" y="2819520"/>
            <a:ext cx="76320" cy="759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2819520"/>
            <a:ext cx="75960" cy="759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53080" y="2819520"/>
            <a:ext cx="76320" cy="759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7480" y="5638680"/>
            <a:ext cx="13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33640" y="5335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848720" y="609480"/>
            <a:ext cx="923760" cy="9241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315200" cy="990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rchitektura sprzęto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286000" y="259092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ZASOBY OBLICZENIOWE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562720" y="2057400"/>
            <a:ext cx="198108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2057400"/>
            <a:ext cx="266688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del  komunik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09480" y="266688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ezent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27672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s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205740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pl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449568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ie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510552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388620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ranspor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571500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22240" y="572616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izycz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9960" y="511668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Łącza da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43200" y="3276720"/>
            <a:ext cx="4648320" cy="304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57600" y="342900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2666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629400" y="2666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3657600"/>
            <a:ext cx="83844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52680" y="20970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62720" y="2133720"/>
            <a:ext cx="6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029200" y="487692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iddleware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"/>
          <p:cNvSpPr/>
          <p:nvPr/>
        </p:nvSpPr>
        <p:spPr>
          <a:xfrm>
            <a:off x="4269600" y="5638680"/>
            <a:ext cx="36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arstwa Pośredniczą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388620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CP 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441972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00800" y="2286000"/>
            <a:ext cx="457200" cy="380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2286000"/>
            <a:ext cx="457200" cy="380880"/>
          </a:xfrm>
          <a:prstGeom prst="rect">
            <a:avLst/>
          </a:prstGeom>
          <a:gradFill rotWithShape="0">
            <a:gsLst>
              <a:gs pos="0">
                <a:srgbClr val="d60093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rstwa pośredniczą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3429000" y="213372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iddleware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676520" y="3048120"/>
            <a:ext cx="14475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cc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RBA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100000">
                    <a:srgbClr val="00cc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638680" y="3124080"/>
            <a:ext cx="1295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5e4675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COM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cc99ff"/>
                  </a:gs>
                  <a:gs pos="100000">
                    <a:srgbClr val="5e4675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/>
          <p:nvPr/>
        </p:nvSpPr>
        <p:spPr>
          <a:xfrm>
            <a:off x="1906560" y="3809880"/>
            <a:ext cx="82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0080" y="4419720"/>
            <a:ext cx="200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66"/>
                </a:solidFill>
                <a:latin typeface="Arial"/>
              </a:rPr>
              <a:t>Microso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83960" y="5562720"/>
            <a:ext cx="510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Środowiska obiektow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504960" y="297180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0600" y="297180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14400" y="2057400"/>
            <a:ext cx="243828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2743200"/>
            <a:ext cx="1295640" cy="9907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86400" y="2286000"/>
            <a:ext cx="2438280" cy="160020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5029200"/>
            <a:ext cx="7238880" cy="14479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chitektura 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5800" y="4038480"/>
            <a:ext cx="7772400" cy="762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3048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3048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86600" y="5334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5334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5334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77120" y="5334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3048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358128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10280" y="3048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62920" y="358128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3048120"/>
            <a:ext cx="60984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358128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5120" y="358128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19520" y="358128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10815000">
            <a:off x="7238520" y="48006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0815000">
            <a:off x="1294920" y="48006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0815000">
            <a:off x="1905120" y="480060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0815000">
            <a:off x="6552720" y="48006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5334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0815000">
            <a:off x="2590920" y="480060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41000" y="414036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R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21320" y="6019920"/>
            <a:ext cx="27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USLUGI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SYSTEMOWE COR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43600" y="2362320"/>
            <a:ext cx="20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cc"/>
                </a:solidFill>
                <a:latin typeface="Arial"/>
              </a:rPr>
              <a:t>STANDARDOW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pl-PL" sz="1400" spc="-1" strike="noStrike">
                <a:solidFill>
                  <a:srgbClr val="0000cc"/>
                </a:solidFill>
                <a:latin typeface="Arial"/>
              </a:rPr>
              <a:t>APLIKAC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1981080"/>
            <a:ext cx="19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APLIKAC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UŻYTKOWNI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123720" y="2743200"/>
            <a:ext cx="838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362320" y="2285640"/>
            <a:ext cx="1600200" cy="609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39920" y="21528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26240" y="257508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ie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1320" y="5334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15000">
            <a:off x="5866920" y="48006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jęcie obiek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523880" y="2895480"/>
            <a:ext cx="1295640" cy="1143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7120" y="327672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eracj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3880" y="2971800"/>
            <a:ext cx="13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eracj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7120" y="363060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eracja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640" y="4495680"/>
            <a:ext cx="17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nterfej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29720" y="4495680"/>
            <a:ext cx="300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mplementac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operac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3352680"/>
            <a:ext cx="761760" cy="228600"/>
          </a:xfrm>
          <a:prstGeom prst="leftRightArrow">
            <a:avLst>
              <a:gd name="adj1" fmla="val 50000"/>
              <a:gd name="adj2" fmla="val 66337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2514600"/>
            <a:ext cx="1905120" cy="1676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29400" y="3598920"/>
            <a:ext cx="838080" cy="23328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81680" y="3241800"/>
            <a:ext cx="457200" cy="950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05720" y="3041640"/>
            <a:ext cx="75960" cy="466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81680" y="2936880"/>
            <a:ext cx="609840" cy="31104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10280" y="3048120"/>
            <a:ext cx="152640" cy="155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86400" y="3429000"/>
            <a:ext cx="1143000" cy="152280"/>
          </a:xfrm>
          <a:prstGeom prst="leftRightArrow">
            <a:avLst>
              <a:gd name="adj1" fmla="val 50000"/>
              <a:gd name="adj2" fmla="val 149423"/>
            </a:avLst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629400" y="2590920"/>
            <a:ext cx="1295280" cy="1447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6T15:23:20Z</dcterms:created>
  <dc:creator>K.Z.</dc:creator>
  <dc:description/>
  <dc:language>en-US</dc:language>
  <cp:lastModifiedBy>DSRG</cp:lastModifiedBy>
  <cp:lastPrinted>1998-09-21T07:40:02Z</cp:lastPrinted>
  <dcterms:modified xsi:type="dcterms:W3CDTF">1998-10-05T08:04:42Z</dcterms:modified>
  <cp:revision>35</cp:revision>
  <dc:subject/>
  <dc:title>Bez tytułu slajdu</dc:title>
</cp:coreProperties>
</file>